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art-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WordArt 6"/>
          <p:cNvSpPr txBox="1"/>
          <p:nvPr/>
        </p:nvSpPr>
        <p:spPr>
          <a:xfrm>
            <a:off x="1752480" y="838080"/>
            <a:ext cx="5791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896e37">
                      <a:alpha val="75000"/>
                    </a:srgbClr>
                  </a:outerShdw>
                </a:effectLst>
                <a:latin typeface="Lucida Calligraphy"/>
              </a:rPr>
              <a:t>La Belle </a:t>
            </a:r>
            <a:endParaRPr b="0" lang="en-US" sz="4800" spc="1" strike="noStrike">
              <a:ln w="0">
                <a:noFill/>
              </a:ln>
              <a:solidFill>
                <a:srgbClr val="ffcc66"/>
              </a:solidFill>
              <a:effectLst>
                <a:outerShdw dist="17819" dir="2700000" blurRad="0" rotWithShape="0">
                  <a:srgbClr val="896e37">
                    <a:alpha val="75000"/>
                  </a:srgbClr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896e37">
                      <a:alpha val="75000"/>
                    </a:srgbClr>
                  </a:outerShdw>
                </a:effectLst>
                <a:latin typeface="Lucida Calligraphy"/>
              </a:rPr>
              <a:t>Epoch </a:t>
            </a:r>
            <a:endParaRPr b="0" lang="en-US" sz="4800" spc="1" strike="noStrike">
              <a:ln w="0">
                <a:noFill/>
              </a:ln>
              <a:solidFill>
                <a:srgbClr val="ffcc66"/>
              </a:solidFill>
              <a:effectLst>
                <a:outerShdw dist="17819" dir="2700000" blurRad="0" rotWithShape="0">
                  <a:srgbClr val="896e37">
                    <a:alpha val="75000"/>
                  </a:srgbClr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896e37">
                      <a:alpha val="75000"/>
                    </a:srgbClr>
                  </a:outerShdw>
                </a:effectLst>
                <a:latin typeface="Lucida Calligraphy"/>
              </a:rPr>
              <a:t>[1871-1914]:</a:t>
            </a:r>
            <a:endParaRPr b="0" lang="en-US" sz="4800" spc="1" strike="noStrike">
              <a:ln w="0">
                <a:noFill/>
              </a:ln>
              <a:solidFill>
                <a:srgbClr val="ffcc66"/>
              </a:solidFill>
              <a:effectLst>
                <a:outerShdw dist="17819" dir="2700000" blurRad="0" rotWithShape="0">
                  <a:srgbClr val="896e37">
                    <a:alpha val="75000"/>
                  </a:srgbClr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896e37">
                      <a:alpha val="75000"/>
                    </a:srgbClr>
                  </a:outerShdw>
                </a:effectLst>
                <a:latin typeface="Lucida Calligraphy"/>
              </a:rPr>
              <a:t>"The Beautiful Era"</a:t>
            </a:r>
            <a:endParaRPr b="0" lang="en-US" sz="4800" spc="1" strike="noStrike">
              <a:ln w="0">
                <a:noFill/>
              </a:ln>
              <a:solidFill>
                <a:srgbClr val="ffcc66"/>
              </a:solidFill>
              <a:effectLst>
                <a:outerShdw dist="17819" dir="2700000" blurRad="0" rotWithShape="0">
                  <a:srgbClr val="896e37">
                    <a:alpha val="75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38" name="Text Box 7"/>
          <p:cNvSpPr/>
          <p:nvPr/>
        </p:nvSpPr>
        <p:spPr>
          <a:xfrm>
            <a:off x="1447920" y="5562720"/>
            <a:ext cx="6324480" cy="461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152280" y="272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685800" y="1371600"/>
            <a:ext cx="8077320" cy="468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ater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Higher standard of l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Development “zo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0280" indent="-34272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nner Zone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Br, Fr, Ger, Belg,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    No. It, W. Aust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0280" indent="-34272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Outer Zone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Ire., Iberian Pen.,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    most of Italy, Europe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    east of G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0280" indent="-34272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Underdeveloped Zone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Afro-A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685800" y="914400"/>
            <a:ext cx="8077320" cy="57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ncreased European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Growth of Cities &amp; Urban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igration from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1850-1940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60 million left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ent to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US, Argentina, Brazil,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Canada, Australia/N. Ze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SzPct val="11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econd” Industrial R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team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nternal combustion &amp; diesel engi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Cars, planes, submari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272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533520" y="762120"/>
            <a:ext cx="8458200" cy="61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econd” Industrial Revolution [con’t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ritain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“The World’s Industrial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Workshop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Corporations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limited liability of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     invest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ass prod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ree Trade [esp. in Englan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orld Markets [Global Economy, Part I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dvance of Democ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xtension of the vote to the working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Creating a “welfare stat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533520" y="762120"/>
            <a:ext cx="8458200" cy="57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The Appeal of Soc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y the 1880s, most socialist parties were Marxist [esp. Ger. &amp; Fr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Not very successful in Eng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aith in Science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cience at the core of industrializ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New Wonders” of daily lif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Charles Dar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Origin of Species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[185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urvival of the fitte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2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33520" y="1531800"/>
            <a:ext cx="7924680" cy="429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aith in Science Alone [con’t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ocial Darwinism”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Herbert Spen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uge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Newtonian Science turned on its 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instein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“Theory of Relativity”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nature &amp; energy were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separate &amp; distin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ax Planck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Quantum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52280" y="34920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33520" y="1073160"/>
            <a:ext cx="8458200" cy="56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aith in Science Alone [con’t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rofessionalization of “new” sciences [anthropology, archaeology,etc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syc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347920" indent="-457200">
              <a:lnSpc>
                <a:spcPct val="100000"/>
              </a:lnSpc>
              <a:spcBef>
                <a:spcPts val="1624"/>
              </a:spcBef>
              <a:buClr>
                <a:srgbClr val="66cc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van Pavlov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conditioned respo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347920" indent="-457200">
              <a:lnSpc>
                <a:spcPct val="100000"/>
              </a:lnSpc>
              <a:spcBef>
                <a:spcPts val="1624"/>
              </a:spcBef>
              <a:buClr>
                <a:srgbClr val="66cc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igmund Freud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psycho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919240" indent="-45720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Comic Sans MS"/>
              <a:buChar char="o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The Interpretation of Dreams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[190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919240" indent="-45720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Comic Sans MS"/>
              <a:buChar char="o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The role of the unconscious [the id, ego, super ego]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272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533520" y="609480"/>
            <a:ext cx="8458200" cy="583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lnSpc>
                <a:spcPct val="100000"/>
              </a:lnSpc>
              <a:spcBef>
                <a:spcPts val="1500"/>
              </a:spcBef>
              <a:buClr>
                <a:srgbClr val="71ffff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w Trends in Philos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gnos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ihi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500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riedrich 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47920" indent="-457200">
              <a:lnSpc>
                <a:spcPct val="100000"/>
              </a:lnSpc>
              <a:spcBef>
                <a:spcPts val="1500"/>
              </a:spcBef>
              <a:buClr>
                <a:srgbClr val="66cc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Übermensc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“Super 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rr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istent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500"/>
              </a:spcBef>
              <a:buClr>
                <a:srgbClr val="ff66cc"/>
              </a:buClr>
              <a:buSzPct val="14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ören Kierkegaard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xistence proceeds es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8360" indent="-738360">
              <a:lnSpc>
                <a:spcPct val="100000"/>
              </a:lnSpc>
              <a:spcBef>
                <a:spcPts val="1500"/>
              </a:spcBef>
              <a:buClr>
                <a:srgbClr val="71ffff"/>
              </a:buClr>
              <a:buSzPct val="110000"/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ternal Religious Strug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dernists vs. funda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533520" y="914400"/>
            <a:ext cx="8458200" cy="51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nti-Semit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Dreyfus Aff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Theodore Herzl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Der Judenstaat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The </a:t>
            </a:r>
            <a:br>
              <a:rPr sz="2600"/>
            </a:b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             Jewish State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], 18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457200">
              <a:lnSpc>
                <a:spcPct val="100000"/>
              </a:lnSpc>
              <a:spcBef>
                <a:spcPts val="1624"/>
              </a:spcBef>
              <a:buClr>
                <a:srgbClr val="ff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ather of Modern Zionis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73836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omen’s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624"/>
              </a:spcBef>
              <a:buClr>
                <a:srgbClr val="ffcc66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mmeline Pankhu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73836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The “New” Imperi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738360">
              <a:lnSpc>
                <a:spcPct val="100000"/>
              </a:lnSpc>
              <a:spcBef>
                <a:spcPts val="1624"/>
              </a:spcBef>
              <a:buClr>
                <a:srgbClr val="71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Militarism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glorification of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522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57:31Z</dcterms:created>
  <dc:creator>Ms. Susan M. Pojer</dc:creator>
  <dc:description/>
  <dc:language>en-US</dc:language>
  <cp:lastModifiedBy>S Gregory</cp:lastModifiedBy>
  <dcterms:modified xsi:type="dcterms:W3CDTF">2009-03-26T18:26:04Z</dcterms:modified>
  <cp:revision>21</cp:revision>
  <dc:subject/>
  <dc:title>Characteristics of La Belle Epoch</dc:title>
</cp:coreProperties>
</file>